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3EC-B540-48AA-B945-0324871D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245-0A72-43F0-A5DF-9C4EF841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0EC-1F10-428B-8AF8-7FA2F5A7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D42-D573-44CE-8A71-027EC4AC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1E0-2C0A-40CB-849D-4320215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A4F-3A48-47CC-9CC5-DDF1696D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C84-7AE9-492B-BB80-4022563B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7FD-EA48-4DAB-963A-018872D2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438-AB2A-4DC1-AC7D-1BA651BF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E96-CF13-40C9-AEE5-A62BECA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3F2-2C16-4436-9174-951F038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5C2-66BE-4FA3-B38E-F132F0E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C9E7-7531-4F1F-88D9-D771490003DA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2842080" y="25854120"/>
            <a:ext cx="985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2" descr="future"/>
          <p:cNvPicPr/>
          <p:nvPr/>
        </p:nvPicPr>
        <p:blipFill>
          <a:blip r:embed="rId14"/>
          <a:srcRect l="14269" t="0" r="0" b="0"/>
          <a:stretch/>
        </p:blipFill>
        <p:spPr>
          <a:xfrm>
            <a:off x="31772160" y="18749880"/>
            <a:ext cx="12347640" cy="8529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3299280" y="18450000"/>
            <a:ext cx="9982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3T19:43:06Z</dcterms:modified>
  <cp:revision>45</cp:revision>
  <dc:subject/>
  <dc:title>Slide 1</dc:title>
</cp:coreProperties>
</file>